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6047B-F83F-4910-A6D2-AD87EAA930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15840" y="685800"/>
            <a:ext cx="5024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15840" y="685800"/>
            <a:ext cx="5024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15840" y="685800"/>
            <a:ext cx="5024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B72-BFF2-4BCB-8FD2-F927EBBA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616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9D5-6B5E-48F5-930A-0482CBC4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A66-1D02-4375-B63F-C49CAB3B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460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236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460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236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43C-E620-4BD4-A2C0-9CB275FA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6741-6C75-454B-B94E-00CD43B0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66D1-F97B-42B3-B88A-D9D9B100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F9ED-2B50-4007-A643-7E7D9B31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1F06-E7D4-4C3C-B6A7-3910A25A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E580-CCAF-4C72-9FA9-BE31D628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529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684A-8B8B-4539-8FA3-A394BE56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9681-0964-4F1C-B6A7-699CC63F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F25-2F5E-4CA1-A455-B3EAD09F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704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85BE-2133-4DAA-8F3A-EDE3E6EC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4D15-2301-497F-A349-F9E6814D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616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2606-759C-45A5-86B4-1A41C05D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704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E7AB-0F68-4718-9488-14E47C75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460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236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460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236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0233-E5E3-4F3A-AC94-1CA00BC6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74EAC-BE2D-4D0C-8AD0-038467B0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0F2C-E6D2-4FD8-B43A-9509F1E7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9B5E2-057E-47B8-BF0E-0FF0C7FE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72391-ABE3-4BC0-9AC5-BC7DD2F2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6786-537B-4B4B-A5A4-E6899958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1E7-FBEA-49C3-9B87-4CC98423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529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99EC7-A023-458C-9654-CA665649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EE797-8DD7-483E-9644-3BA439EF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704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C3FCA-3564-459B-99C7-EB3BC5BB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1DA0A-131A-48AD-9B1E-8A2BFE22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01616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1444-6BF1-4EDE-81D7-B1054D92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704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372AD-9940-45DC-9484-BA2F7386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460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1236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460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1236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56634-AFD5-4111-8D25-FEEC05B1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345A5-CE7C-47D1-92E1-8820C6C7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B1794-12E9-4624-B9E0-69484DA4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518AC-B8EE-47A2-9347-E058D746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2DF-E343-4AC1-A643-9DD02944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81B94-59B6-445C-B47F-AEB5F2DB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3C88A-87E7-4D00-82AB-B0C380D1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529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D8E51-F864-4CEF-8D41-A0BCCB87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2BACD-921F-4BDD-A108-320800AC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704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75047-093A-46AC-B1CD-FE39265E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1E25-D14F-4BF7-8D3C-A763FD54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616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ABC25-8FF3-4B86-8843-C8A8E121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704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150A-05BB-4FE8-9D5E-26256C79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460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12360" y="171900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460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12360" y="4016160"/>
            <a:ext cx="264492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30588-C1C4-4081-8374-2FDA0F8C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419-C429-4920-B119-09292CE4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529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493-7FAE-4338-B314-E0A1CCAE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5A1-ABAC-4A78-98EA-A052F5B5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01616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ABA-21AE-4AF9-81ED-BF0090A4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719000"/>
            <a:ext cx="400896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6160"/>
            <a:ext cx="8215200" cy="20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CB7-5AAB-49B8-8B35-1C79D0F7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28728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6684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84360" indent="-30168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84360" indent="-30168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84360" indent="-30168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14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390C3-D435-4E0A-B8B9-2F6E6B4128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676764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14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EFD5E-E2A5-457B-B633-A5E623D0A4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152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28728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6684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84360" indent="-30168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84360" indent="-30168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84360" indent="-30168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28728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6684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84360" indent="-30168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84360" indent="-30168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84360" indent="-30168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814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3B042-8C57-4407-85C6-2B28C866A7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676764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814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D5EC5-B961-42F9-8FD5-D8EDCF026F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152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8680" indent="-32868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28728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6684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84360" indent="-30168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84360" indent="-30168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84360" indent="-30168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76360" y="87588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52080" y="3068280"/>
            <a:ext cx="839628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330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ro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30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rd’s of a Fe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330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56400" cy="1838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92360" y="5589720"/>
            <a:ext cx="624816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im Bi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ELF Architecture Group Cha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 layo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Dc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lv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r-space pie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G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 Man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 life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ash suppo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rowser (webkit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o collabor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oogle doesn’t always welcome con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: I haven’t signed their license agre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y sugges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 e-linux wiki for non-Google sanctioned information and pat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n use existing Google lists, unless google people complain (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Questions and Discussion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979280" y="364608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315200" y="624852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9CEA8-6DE4-487B-9B24-D8FCCE21E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- basic in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t or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collabo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  <a:ea typeface="Arial"/>
              </a:rPr>
              <a:t>Android – Basic Intro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979280" y="364608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315200" y="624852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59C57-F8AC-4007-8319-B52B5D24B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 – Basic Intr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ux-based OS mainly developed by Google, now deployed in mobile phones worldw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s a new platform, not based on any existing Linux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ernel + Google stu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onic li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alvik JV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ass libs gal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Hot or Not?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979280" y="364608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 interesting features of Android should we adopt as an embedded Linux commu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315200" y="624852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77548-3DD3-41A1-8FF4-FA21ACEBC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rnel stuf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nder – new IPC mechani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ake locks – ability to hold the machine “awak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urns power management on it’s h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fault state of machine is off, and apps have to assert a lock to keep it awa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m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r-spa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 footprint, custom-purpose, C libr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it’s own threading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upport for multi-u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ive libra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lti-project source management 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rapper for ‘git’ for 100 reposit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uild system (Android makefi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esn’t build kernel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esn’t keep patches sepa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-built toolch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529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velopment to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db – Android Debug Brid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ost/target control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mul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develop and test some applications prior to device avail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clipse integ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g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09-10-14T17:26:32Z</dcterms:modified>
  <cp:revision>5</cp:revision>
  <dc:subject/>
  <dc:title>スライド 1</dc:title>
</cp:coreProperties>
</file>